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F421-A667-406A-AAE0-BD2945D6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42B6-D498-4230-B00A-36193C44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61F0-7548-40BA-BBA0-64378DFD7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4660-2B0D-46DA-B497-5A150C0C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6E72-79EB-41EB-9A49-318BE3F7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F381-DF8A-44E6-8287-83E58349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0703-7CD7-4FC2-852C-73233476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32C2-3BD5-4FF8-9A5E-4DBABDC0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0B17-884F-4AB8-AF92-BD26E67D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AC1E-9491-4C14-A218-370E2836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EB15-80DD-4E82-8158-06EA29A2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0D1A-F676-4CB5-9366-9C18D35C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D08969-A468-4B35-B651-E71114DC4F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1F9067-DA1D-4B87-98EE-CD50F66CA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558720" y="528480"/>
            <a:ext cx="2646360" cy="38721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th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Sol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 0.534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0.6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Goo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reac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180 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silv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675240" y="528480"/>
            <a:ext cx="2644560" cy="38721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known #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Sol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 1.53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0.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Goo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reacts violent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39 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silvery whi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558720" y="4838760"/>
            <a:ext cx="2646360" cy="38703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od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Sol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 0.971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0.5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Goo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reacts rapid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98 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silv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3675240" y="4838760"/>
            <a:ext cx="2644560" cy="38703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tass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Sol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 0.86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0.4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Goo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reacts rapid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63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silv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558720" y="528480"/>
            <a:ext cx="2646360" cy="38721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es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Sol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 1.87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0.2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Goo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reacts violent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29 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silvery whi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675240" y="528480"/>
            <a:ext cx="2644560" cy="38721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known #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G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 0.00170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n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Very po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sligh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-219.6 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pale yello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558720" y="4838760"/>
            <a:ext cx="2646360" cy="38703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lor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G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 0.00321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non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Very po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sligh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-101 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greenish yello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3675240" y="4838760"/>
            <a:ext cx="2644560" cy="38703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rom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Liqu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 3.12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non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Very po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negligi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-7.2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reddish-brow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558720" y="528480"/>
            <a:ext cx="2646360" cy="38721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od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Sol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 4.93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unknow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Very po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negligi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113.5 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bluish-blac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675240" y="528480"/>
            <a:ext cx="2644560" cy="38721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known #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Sol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2.33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6.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Intermedia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n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1410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gre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558720" y="4838760"/>
            <a:ext cx="2646360" cy="38703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rb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Sol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 2.10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0.5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Goo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negligi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3550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blac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3675240" y="4838760"/>
            <a:ext cx="2644560" cy="38703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Sol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 11.35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1.5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Po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n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327.5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gr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558720" y="528480"/>
            <a:ext cx="2646360" cy="38721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Sol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 7.31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1.5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Goo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n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232 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silv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675240" y="528480"/>
            <a:ext cx="2644560" cy="38721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known #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Sol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5.32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6.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Fair to Po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n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937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gre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558720" y="4838760"/>
            <a:ext cx="2646360" cy="38703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all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Sol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 5.904 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1.5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Mediu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n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30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silve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3675240" y="4838760"/>
            <a:ext cx="2644560" cy="38703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d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Sol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 7.31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1.2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Mediu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n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157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silvery whi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558720" y="528480"/>
            <a:ext cx="2646360" cy="38721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Sol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 8.96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3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Excell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n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1803 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copp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1 or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675240" y="528480"/>
            <a:ext cx="2644560" cy="38721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known #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Sol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11.85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1.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Mediu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n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303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silvery whit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558720" y="4838760"/>
            <a:ext cx="2646360" cy="38703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l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Sol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 10.5 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2.5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Excell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n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961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silv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3675240" y="4838760"/>
            <a:ext cx="2644560" cy="38703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eryll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Sol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1.85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5.5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Excell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n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1287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gr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558720" y="528480"/>
            <a:ext cx="2646360" cy="38721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lc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Sol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1.57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1.75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Goo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reac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845 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silvery whi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675240" y="528480"/>
            <a:ext cx="2644560" cy="38721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known #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Sol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19.3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2.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Excell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n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1064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go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558720" y="4838760"/>
            <a:ext cx="2646360" cy="38703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a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Sol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 3.6 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1.25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Goo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reacts strong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710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silvery whi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3675240" y="4838760"/>
            <a:ext cx="2644560" cy="38703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known #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Sol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1.74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2.5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Goo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reacts slow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651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silvery whi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558720" y="528480"/>
            <a:ext cx="2646360" cy="38721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l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G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0.00018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non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Very po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n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-272 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colorl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675240" y="528480"/>
            <a:ext cx="2644560" cy="38721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known #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Sol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2.54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1.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Goo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reacts rapid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769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silvery whi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558720" y="4838760"/>
            <a:ext cx="2646360" cy="38703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e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G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 0.00090 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non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Very po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n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-249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colorl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3675240" y="4838760"/>
            <a:ext cx="2644560" cy="38703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known #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G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0.00374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non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Very po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n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-156.6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colorl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558720" y="528480"/>
            <a:ext cx="2646360" cy="38721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G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0.00178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non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Very po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n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-189.2 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colorl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675240" y="528480"/>
            <a:ext cx="2644560" cy="3872160"/>
          </a:xfrm>
          <a:prstGeom prst="rect">
            <a:avLst/>
          </a:prstGeom>
          <a:noFill/>
          <a:ln w="57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en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hysical State (at STP): G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nsity:  0.00585  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ardness (Mohs Scale): non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ductivity: Very po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lubility (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): n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lting Point: -119.9°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lor: colorl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ence: 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8:15:42Z</dcterms:created>
  <dc:creator>Noelle Van Ee</dc:creator>
  <dc:description/>
  <dc:language>en-US</dc:language>
  <cp:lastModifiedBy>Noelle Van Ee</cp:lastModifiedBy>
  <cp:lastPrinted>2011-10-26T21:25:20Z</cp:lastPrinted>
  <dcterms:modified xsi:type="dcterms:W3CDTF">2011-10-26T21:25:36Z</dcterms:modified>
  <cp:revision>9</cp:revision>
  <dc:subject/>
  <dc:title>Slide 1</dc:title>
</cp:coreProperties>
</file>